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46247"/>
        <c:axId val="14162697"/>
      </c:barChart>
      <c:catAx>
        <c:axId val="89746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62697"/>
        <c:crosses val="autoZero"/>
        <c:auto val="1"/>
        <c:lblAlgn val="ctr"/>
        <c:lblOffset val="100"/>
        <c:noMultiLvlLbl val="0"/>
      </c:catAx>
      <c:valAx>
        <c:axId val="14162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46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3C3-C0E7-4474-9670-9266AA3C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197-BB55-414E-B7E1-28AA793D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914-7CEB-4624-8567-C66F7E13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F61-C61A-46D8-8ADB-45696B75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F6F-0260-40CC-8D27-C2539478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15E-773B-4ACB-A5E6-867959BF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65E-4350-4F07-BAD8-611EDDB3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A66-D029-4942-8A52-7A93430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38A-2D1F-423C-A1D7-A4EE3BF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9F5-42C2-4620-8340-6AC42D3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394-53A4-45D8-8795-DAE1BC1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080-6CF7-4E98-80E2-1A03FD81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A49A4-111F-44CD-91DC-BCD4FFEE2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