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0178"/>
        <c:axId val="60936294"/>
      </c:barChart>
      <c:catAx>
        <c:axId val="5060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36294"/>
        <c:crosses val="autoZero"/>
        <c:auto val="1"/>
        <c:lblAlgn val="ctr"/>
        <c:lblOffset val="100"/>
        <c:noMultiLvlLbl val="0"/>
      </c:catAx>
      <c:valAx>
        <c:axId val="60936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0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8E5-0926-4244-880B-C19EBFB1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1B9-B0C9-4C08-857C-F5B88CC3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FF2-D436-4B92-820C-F8054180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7C3-B3D7-4577-8D48-7640615E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EA5-570E-4B36-B086-BFC332B2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E1F-D04D-4CC2-B62A-928184D5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6DB-BE96-4FBF-BBE8-99ECC88F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631-A21A-4ED1-829C-88BAA12F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3F2-99E9-4A7F-AEA2-B2714394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F45-21F3-4676-A10B-73E63C0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8FB-69CC-4590-BABA-E88FFE8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C9F-E651-4F37-B4BA-9A6E55D9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95890-8355-4026-B6A7-E390781CD0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