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433"/>
        <c:axId val="78662279"/>
      </c:barChart>
      <c:catAx>
        <c:axId val="9038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62279"/>
        <c:crosses val="autoZero"/>
        <c:auto val="1"/>
        <c:lblAlgn val="ctr"/>
        <c:lblOffset val="100"/>
        <c:noMultiLvlLbl val="0"/>
      </c:catAx>
      <c:valAx>
        <c:axId val="78662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937-B7DA-4F19-8C15-B08A278E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94B-AF5F-4FB8-B27D-965755B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95A-09F6-4CAD-A354-86B012A3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8A6-A968-47E0-A813-2A74A933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54A-A219-48B2-8009-C70DECF2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18D-1A56-41EC-AB59-E19B140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AD0-61EA-4CC2-AB0F-2AFE389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32A-A579-478F-919F-D0792438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B7D-0AD9-4B54-B544-AA109210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8D5-3DB8-4048-9B11-A0F3A67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C1C-BB79-448C-BD10-965E134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CD9-0BFD-410A-8E69-DF28CAD6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5C082-94BE-405F-BC27-E8A77A09E0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