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70617"/>
        <c:axId val="71340046"/>
      </c:barChart>
      <c:catAx>
        <c:axId val="59870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40046"/>
        <c:crosses val="autoZero"/>
        <c:auto val="1"/>
        <c:lblAlgn val="ctr"/>
        <c:lblOffset val="100"/>
        <c:noMultiLvlLbl val="0"/>
      </c:catAx>
      <c:valAx>
        <c:axId val="71340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70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F02-6C18-4DCB-98D5-0FEDDB23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7F2-CD62-4EB3-9DFB-F9C985F2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922-ADC1-4B56-86A7-1563CD99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29D-9118-4474-9080-BCC93474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28C-EA38-459A-8AEF-7634E4FC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FDA-A1C9-4D16-AFEF-F52618F9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D2D-E2A4-4F4F-ABC7-8E394E74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F0D-37F6-4D02-923E-8C28B55B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511-90BD-4829-940A-BAB218A2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C77-4951-474F-BEE8-69FBD25B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BF5-0CB2-4518-AD92-C5DCC457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701-90F0-4597-9447-1EB1DABD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75132-A0B6-4CBD-B887-33C178604A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